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3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35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5DDD-E07F-4684-8BB4-DE7E46442961}" type="slidenum">
              <a:rPr b="0" lang="en-US" sz="2400" spc="-1" strike="noStrike">
                <a:solidFill>
                  <a:srgbClr val="000000"/>
                </a:solidFill>
                <a:latin typeface="Book Antiqua"/>
              </a:rPr>
              <a:t>&lt;number&gt;</a:t>
            </a:fld>
            <a:endParaRPr b="0" lang="en-US" sz="2400" spc="-1" strike="noStrike">
              <a:solidFill>
                <a:srgbClr val="000000"/>
              </a:solidFill>
              <a:latin typeface="Book Antiqua"/>
            </a:endParaRPr>
          </a:p>
        </p:txBody>
      </p:sp>
      <p:sp>
        <p:nvSpPr>
          <p:cNvPr id="404" name="PlaceHolder 1"/>
          <p:cNvSpPr>
            <a:spLocks noGrp="1"/>
          </p:cNvSpPr>
          <p:nvPr>
            <p:ph type="sldImg"/>
          </p:nvPr>
        </p:nvSpPr>
        <p:spPr>
          <a:xfrm>
            <a:off x="1150920" y="692280"/>
            <a:ext cx="4556160" cy="341604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50920" y="692280"/>
            <a:ext cx="4556160" cy="3416040"/>
          </a:xfrm>
          <a:prstGeom prst="rect">
            <a:avLst/>
          </a:prstGeom>
          <a:ln w="0">
            <a:noFill/>
          </a:ln>
        </p:spPr>
      </p:sp>
      <p:sp>
        <p:nvSpPr>
          <p:cNvPr id="423" name="Rectangle 3"/>
          <p:cNvSpPr/>
          <p:nvPr/>
        </p:nvSpPr>
        <p:spPr>
          <a:xfrm>
            <a:off x="572040" y="4519440"/>
            <a:ext cx="543780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vised PPE standard did not change the existing respirato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ve equipment standard.  However, let’s take a few minut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review this standard so that we’re all aware of the requireme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wo basic types of respirators are the air purifying type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tmosphere supplying ty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ir purifying respirators use filters or sorbents to remove harmful</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bstances from the air.  They include simple disposal mask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range to sophisticated filtering devices.  This equipment do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supply oxygen and is not to be used in oxygen deficient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 harmful atmosphe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designed to provid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able air from a clean air source.  The two types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the self-co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ing apparatus and the supplied air respirator. </a:t>
            </a:r>
            <a:endParaRPr b="0" lang="en-US" sz="14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0920" y="692280"/>
            <a:ext cx="4556160" cy="3416040"/>
          </a:xfrm>
          <a:prstGeom prst="rect">
            <a:avLst/>
          </a:prstGeom>
          <a:ln w="0">
            <a:noFill/>
          </a:ln>
        </p:spPr>
      </p:sp>
      <p:sp>
        <p:nvSpPr>
          <p:cNvPr id="425" name="Rectangle 3"/>
          <p:cNvSpPr/>
          <p:nvPr/>
        </p:nvSpPr>
        <p:spPr>
          <a:xfrm>
            <a:off x="572400" y="4138560"/>
            <a:ext cx="579420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d protection is to be provided to protect against overhea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lling hazards or exposed electrical conductors that could contac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ea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industrial purposes, three classes of protective head devic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e recognized:  Class A is the typical hard hat worn by constructio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which provides general impact protection and electric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up to 2,2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B helmets are specifically designed to protect from hig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oltage electrical hazards and are rated to provide protection u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22,0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C helmets are lightweight and designed to provide bum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only.  Electrical contact is not anticipated since thes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lmets are typically constructed of aluminum, an excell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ductor of electricity.  They are typically used in oil fiel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fineries and chemical pla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be able to identify the type of helmet you’re using b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oking inside the shell for the manufacturer’s name, ANSI design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class rating.</a:t>
            </a:r>
            <a:endParaRPr b="0" lang="en-US" sz="14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0920" y="692280"/>
            <a:ext cx="4556160" cy="3416040"/>
          </a:xfrm>
          <a:prstGeom prst="rect">
            <a:avLst/>
          </a:prstGeom>
          <a:ln w="0">
            <a:noFill/>
          </a:ln>
        </p:spPr>
      </p:sp>
      <p:sp>
        <p:nvSpPr>
          <p:cNvPr id="427" name="Rectangle 3"/>
          <p:cNvSpPr/>
          <p:nvPr/>
        </p:nvSpPr>
        <p:spPr>
          <a:xfrm>
            <a:off x="722520" y="4138560"/>
            <a:ext cx="5686200" cy="584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nd protection is necessary when there is exposure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ous chemicals or other substances, severe cut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cerations, severe abrasions, punctures, chemical burn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emperature extrem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eep in mind that no glove is resistant to all chemicals.  Using a</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love designed to resist one chemical may be totally inappropri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use with another chemical.  Manufacturers data should be refer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if in doubt of the specific resistance qualities of a gl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ubber protective equipment for electrical workers must con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the the requirements established by ANSI.</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 of glove selected should fit the requirements and hazar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ociated with the particular job.  Glove selection should includ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oxic properties of the chemicals us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ork being performed including the degree of dexterity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eeded as well as the duration, frequency, and degree of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hemical exposures.</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performance characteristics of the gloves, such as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sistance to chemicals, punctures, tears, and abrasions.</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0920" y="692280"/>
            <a:ext cx="4556160" cy="3416040"/>
          </a:xfrm>
          <a:prstGeom prst="rect">
            <a:avLst/>
          </a:prstGeom>
          <a:ln w="0">
            <a:noFill/>
          </a:ln>
        </p:spPr>
      </p:sp>
      <p:sp>
        <p:nvSpPr>
          <p:cNvPr id="429" name="Rectangle 3"/>
          <p:cNvSpPr/>
          <p:nvPr/>
        </p:nvSpPr>
        <p:spPr>
          <a:xfrm>
            <a:off x="492840" y="4443480"/>
            <a:ext cx="582948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ot protection is to be provided where hazards are encounte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expose the feet to rolling hazards (such as roll paper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il steel), objects capable of piercing the sole (such as heavy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auge metal staples), or where feet are exposed to electrical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or boots are available that provide impact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ression protection and puncture protection.  Safety shoe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uld be sturdy and provide an impact-resistant toe.  In som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metal soles protect against sole puncture.  Additional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ch as metatarsal guards is also available.  Safety shoes come in a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de variety of styles and material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standards specify the requirements and testing procedu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specifications associated with compression and impact tes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ggings protect the lower leg and feet against exposure to molte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al  and welding sparks.  Safety snaps provide the wear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ans of rapid removal of the legging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14400" y="4495320"/>
            <a:ext cx="5029200" cy="39625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with our discussion about chemically-resistant gloves, make sure that the torso protection provided is specifically manufactured to resist the particular chemical or other hazardous substance that you are working with.  Mixing of equipment within different operations is not condoned.</a:t>
            </a:r>
            <a:endParaRPr b="0" lang="en-US" sz="1400" spc="-1" strike="noStrike">
              <a:solidFill>
                <a:srgbClr val="000000"/>
              </a:solidFill>
              <a:latin typeface="Book Antiqua"/>
            </a:endParaRPr>
          </a:p>
        </p:txBody>
      </p:sp>
      <p:sp>
        <p:nvSpPr>
          <p:cNvPr id="4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view each of these points with the workers.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fit the individual worker and should be reasonably comfortable.  The equipment should not be altered or modified by the worker or it’s effectiveness may be compromised.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be kept clean by the individual worker.  Follow manufacturer s instructions.  Cleaning PPE is important for sanitary reasons and is usually easily accomplished.  For example, cleaning of hard hat shells can be done by dipping them for at least one minute in hot water, approximately 140 degrees F, that contains a mild detergent.  Shells can be scrubbed and then rinsed in clear hot water.  After rinsing, shells can be inspected for cracks or other signs of damag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Daily inspection of PPE by the worker of assigned PPE ensures that no unfit equipment is being used.   A supply of new PPE should be established so that replacement is immediate.</a:t>
            </a:r>
            <a:endParaRPr b="0" lang="en-US" sz="14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Lead a final discussion on key points covered and </a:t>
            </a:r>
            <a:r>
              <a:rPr b="0" lang="en-US" sz="1600" spc="-1" strike="noStrike">
                <a:solidFill>
                  <a:srgbClr val="000000"/>
                </a:solidFill>
                <a:latin typeface="Book Antiqua"/>
              </a:rPr>
              <a:t> again remind workers that PPE does not eliminate the hazard, it only provides one additional barrier of protection.</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k for any final questions and thank all for attending.</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sp>
        <p:nvSpPr>
          <p:cNvPr id="435"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50920" y="692280"/>
            <a:ext cx="4556160" cy="3416040"/>
          </a:xfrm>
          <a:prstGeom prst="rect">
            <a:avLst/>
          </a:prstGeom>
          <a:ln w="0">
            <a:noFill/>
          </a:ln>
        </p:spPr>
      </p:sp>
      <p:sp>
        <p:nvSpPr>
          <p:cNvPr id="407" name="Rectangle 3"/>
          <p:cNvSpPr/>
          <p:nvPr/>
        </p:nvSpPr>
        <p:spPr>
          <a:xfrm>
            <a:off x="747720" y="4192560"/>
            <a:ext cx="5041800" cy="435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ederal Occupational Safety and Health Administr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issued a revised Personal Protective Equipment (PPE) standard in 1994. OSHA‘s revised standard becam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ffective on 7/5/94, with the exception of  th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ment and Employee Training requiremen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ich became effective 90 days lat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regulation applies to the use, selection, maintenan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t and disposal of PPE.  It also requires employer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 existing job hazards in their workplace and select th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per type of PPE for workers to use that will provide one additional barrier against job injuri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makes it clear that PPE is </a:t>
            </a:r>
            <a:r>
              <a:rPr b="0" i="1" lang="en-US" sz="1400" spc="-1" strike="noStrike" u="sng">
                <a:solidFill>
                  <a:srgbClr val="000000"/>
                </a:solidFill>
                <a:uFillTx/>
                <a:latin typeface="Arial"/>
              </a:rPr>
              <a:t>not</a:t>
            </a:r>
            <a:r>
              <a:rPr b="0" i="1" lang="en-US" sz="1400" spc="-1" strike="noStrike">
                <a:solidFill>
                  <a:srgbClr val="000000"/>
                </a:solidFill>
                <a:latin typeface="Arial"/>
              </a:rPr>
              <a:t> a substitute fo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gineering, administrative or work practice control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ut an additional control to be used in conjunction wi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s, to present a barrier against specific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s.  Each of you needs to be aware that this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es not eliminate the hazard.  If the equipment fail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posure and possibility of injury remain.</a:t>
            </a:r>
            <a:endParaRPr b="0" lang="en-US" sz="14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50920" y="692280"/>
            <a:ext cx="4556160" cy="3416040"/>
          </a:xfrm>
          <a:prstGeom prst="rect">
            <a:avLst/>
          </a:prstGeom>
          <a:ln w="0">
            <a:noFill/>
          </a:ln>
        </p:spPr>
      </p:sp>
      <p:sp>
        <p:nvSpPr>
          <p:cNvPr id="409" name="Rectangle 3"/>
          <p:cNvSpPr/>
          <p:nvPr/>
        </p:nvSpPr>
        <p:spPr>
          <a:xfrm>
            <a:off x="649440" y="4595760"/>
            <a:ext cx="537372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eneral requirements of this standard require each employe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select appropriate PPE based on the hazards that are pres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 </a:t>
            </a:r>
            <a:r>
              <a:rPr b="0" i="1" lang="en-US" sz="1400" spc="-1" strike="noStrike" u="sng">
                <a:solidFill>
                  <a:srgbClr val="000000"/>
                </a:solidFill>
                <a:uFillTx/>
                <a:latin typeface="Arial"/>
              </a:rPr>
              <a:t>are likely to be present</a:t>
            </a:r>
            <a:r>
              <a:rPr b="0" i="1" lang="en-US" sz="1400" spc="-1" strike="noStrike">
                <a:solidFill>
                  <a:srgbClr val="000000"/>
                </a:solidFill>
                <a:latin typeface="Arial"/>
              </a:rPr>
              <a:t>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to provide the necessary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take measures so as to prohibit the use of damaged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fective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also to take the role of training employe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he proper use, fit, maintenance, life expectancy an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sposal of PPE.  Workers are to be trained to recogniz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understand the potential hazards within the workplac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how to correctly use the PPE provided to them and tha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ur purpose today.   However, please understand tha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PE that may be assigned to each of you does not elimin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zard and can only protect you if it is used and mai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 it was designed to do. </a:t>
            </a:r>
            <a:endParaRPr b="0" lang="en-US" sz="14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0920" y="692280"/>
            <a:ext cx="4556160" cy="3416040"/>
          </a:xfrm>
          <a:prstGeom prst="rect">
            <a:avLst/>
          </a:prstGeom>
          <a:ln w="0">
            <a:noFill/>
          </a:ln>
        </p:spPr>
      </p:sp>
      <p:sp>
        <p:nvSpPr>
          <p:cNvPr id="411" name="Rectangle 3"/>
          <p:cNvSpPr/>
          <p:nvPr/>
        </p:nvSpPr>
        <p:spPr>
          <a:xfrm>
            <a:off x="495000" y="4290840"/>
            <a:ext cx="5655600" cy="435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further required to assess the workplace to determin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hazards that require the use of PPE are present or </a:t>
            </a:r>
            <a:r>
              <a:rPr b="0" i="1" lang="en-US" sz="1400" spc="-1" strike="noStrike" u="sng">
                <a:solidFill>
                  <a:srgbClr val="000000"/>
                </a:solidFill>
                <a:uFillTx/>
                <a:latin typeface="Arial"/>
              </a:rPr>
              <a:t>are likel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to be present.</a:t>
            </a:r>
            <a:r>
              <a:rPr b="0" i="1" lang="en-US" sz="1400" spc="-1" strike="noStrike">
                <a:solidFill>
                  <a:srgbClr val="000000"/>
                </a:solidFill>
                <a:latin typeface="Arial"/>
              </a:rPr>
              <a:t>  If so, the employer must select and have affect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use properly fitted PPE designed to protec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from the identified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quirement states that employers must certify in writ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a workplace hazard assessment has been perform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ce the assessment is completed, PPE has been provided,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trained in it’s use, then the employer and work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ust work together to ensure that defective or damaged PPE i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used and is replaced as necessa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 the results of an actual workplace hazard assess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been conducted or outline future plans to do so.</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Now that we’ve discussed the hazard assess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PPE selection steps, let’s review what training is to be provid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workers...</a:t>
            </a:r>
            <a:endParaRPr b="0" lang="en-US" sz="14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50920" y="692280"/>
            <a:ext cx="4556160" cy="3416040"/>
          </a:xfrm>
          <a:prstGeom prst="rect">
            <a:avLst/>
          </a:prstGeom>
          <a:ln w="0">
            <a:noFill/>
          </a:ln>
        </p:spPr>
      </p:sp>
      <p:sp>
        <p:nvSpPr>
          <p:cNvPr id="413" name="Rectangle 3"/>
          <p:cNvSpPr/>
          <p:nvPr/>
        </p:nvSpPr>
        <p:spPr>
          <a:xfrm>
            <a:off x="648000" y="4748040"/>
            <a:ext cx="50522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are to trained </a:t>
            </a:r>
            <a:r>
              <a:rPr b="0" i="1" lang="en-US" sz="1400" spc="-1" strike="noStrike" u="sng">
                <a:solidFill>
                  <a:srgbClr val="000000"/>
                </a:solidFill>
                <a:uFillTx/>
                <a:latin typeface="Arial"/>
              </a:rPr>
              <a:t>before</a:t>
            </a:r>
            <a:r>
              <a:rPr b="0" i="1" lang="en-US" sz="1400" spc="-1" strike="noStrike">
                <a:solidFill>
                  <a:srgbClr val="000000"/>
                </a:solidFill>
                <a:latin typeface="Arial"/>
              </a:rPr>
              <a:t> doing work that require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e of PPE.  This training is to consist of  knowing when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ar the equipment, what type is necessary, how it i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n, and what it’s limitations are.  In addition, the prop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re, maintenance, useful life and disposal procedures ar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discussed.  We will be covering this information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required to certify in writing that trai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completed and that employees understand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ining.  Therefore, we ask that none of you leave here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out a clear understanding of the use and care of P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may be assigned to you.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50920" y="692280"/>
            <a:ext cx="4556160" cy="3416040"/>
          </a:xfrm>
          <a:prstGeom prst="rect">
            <a:avLst/>
          </a:prstGeom>
          <a:ln w="0">
            <a:noFill/>
          </a:ln>
        </p:spPr>
      </p:sp>
      <p:sp>
        <p:nvSpPr>
          <p:cNvPr id="415" name="Rectangle 3"/>
          <p:cNvSpPr/>
          <p:nvPr/>
        </p:nvSpPr>
        <p:spPr>
          <a:xfrm>
            <a:off x="570600" y="4443480"/>
            <a:ext cx="54104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s of PPE referenced in this standard include cloth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iratory devices, protective shields and barri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PPE is designed to protect the eyes, face, head, torso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tremities from hazards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may be process hazards and they may b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vironmental, chemical, radiological, or mechanical in natur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can result in bodily injury through the process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bsorption (being absorbed through the skin), inhalation (be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haled into the lungs) or through other means of physical contac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t’s discuss the various types of PPE...</a:t>
            </a:r>
            <a:endParaRPr b="0" lang="en-US" sz="14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50920" y="692280"/>
            <a:ext cx="4556160" cy="3416040"/>
          </a:xfrm>
          <a:prstGeom prst="rect">
            <a:avLst/>
          </a:prstGeom>
          <a:ln w="0">
            <a:noFill/>
          </a:ln>
        </p:spPr>
      </p:sp>
      <p:sp>
        <p:nvSpPr>
          <p:cNvPr id="417" name="Rectangle 3"/>
          <p:cNvSpPr/>
          <p:nvPr/>
        </p:nvSpPr>
        <p:spPr>
          <a:xfrm>
            <a:off x="645840" y="4672080"/>
            <a:ext cx="566928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OSHA standard primarily deals with these types of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merican National Standards Institute (ANSI) has publish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formance standards that manufacturers must meet in desig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ufacturing, and testing many of these types of equipmen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label or tag on equipment indicates that this design standar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met and assures product qualit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efly touch on each type listed ab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Let’s discuss each major type of PPE, one by on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structor’s Note</a:t>
            </a:r>
            <a:r>
              <a:rPr b="0" lang="en-US" sz="1400" spc="-1" strike="noStrike">
                <a:solidFill>
                  <a:srgbClr val="000000"/>
                </a:solidFill>
                <a:latin typeface="Arial"/>
              </a:rPr>
              <a:t>:  The next 7 slides cover each of the items list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in more detail.  Be sure to discuss and demonstrate the actu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pment that is applicable to your workplace.  Demonstrate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care and fitness adjustments with each piece of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50920" y="692280"/>
            <a:ext cx="4556160" cy="3416040"/>
          </a:xfrm>
          <a:prstGeom prst="rect">
            <a:avLst/>
          </a:prstGeom>
          <a:ln w="0">
            <a:noFill/>
          </a:ln>
        </p:spPr>
      </p:sp>
      <p:sp>
        <p:nvSpPr>
          <p:cNvPr id="419" name="Rectangle 3"/>
          <p:cNvSpPr/>
          <p:nvPr/>
        </p:nvSpPr>
        <p:spPr>
          <a:xfrm>
            <a:off x="493920" y="4290840"/>
            <a:ext cx="5452920" cy="4138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ye and face equipment is designed to protect the body fro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lying particles, molten metal, liquid chemicals, acids, caustic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quids, chemical gases or vapors, and light radi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fety glasses used to protect against flying particles are requi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equipped with sideshields.  Additional protection need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 worn over non-safety prescription lenses and contac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cidentally, OSHA does not consider contact lenses to be a 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eye protection, but  neither does it consider contact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trimental to the wearer’s safety and heal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is to be taken against multiple hazards.  An exampl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s a welder that may be exposed to both flying particle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ght radiation. Protection must be provided against both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not  just the more sever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ipment to protect the eyes and face come in a wide variety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ypes and styles including certain hard hats equipped wit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 shields.  </a:t>
            </a:r>
            <a:endParaRPr b="0" lang="en-US" sz="14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loss usually happens gradually over a period of time so that the worker may not even realize the extent of the loss until it is too late.  Hearing loss that occurs in this fashion is usually permanent and irreversibl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needs to be protected when noise levels reach or exceed 85 decibels (measured on the A scale) for an 8 hour exposure tim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Short bursts of noise that exceed even higher decibel levels can also require hearing protection as a control measur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protection, earplugs generally offer the most protection.  Foam earplugs that fit snugly are the most effective. To insert properly, roll the earplug into a small diameter, place it well into the ear canal, and insert.  It may help to pull your ear back and up as you insert the plug.</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fter you have inserted it, hold the plug in your ear for a few seconds to ensure a good fit.</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Earmuffs fit over the outside of your ear.  Their effectiveness is limited by the seal they form around the ear.  Facial hair, earrings, and eyeglasses can all compromise the effectiveness of this seal.  The sponge material that forms the seal also needs to be in good condition with no cracks or leaks.</a:t>
            </a:r>
            <a:endParaRPr b="0" lang="en-US" sz="1400" spc="-1" strike="noStrike">
              <a:solidFill>
                <a:srgbClr val="000000"/>
              </a:solidFill>
              <a:latin typeface="Book Antiqua"/>
            </a:endParaRPr>
          </a:p>
        </p:txBody>
      </p:sp>
      <p:sp>
        <p:nvSpPr>
          <p:cNvPr id="42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1BFC2-708A-4612-A380-525815411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0550-6181-42FD-8979-58183E22E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21698-E70E-4489-BB58-EADE48EC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2940B-6C23-43AA-934C-CB198E4E8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3383A-23BB-4A86-98B3-5D13BE4F4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A345A-C62C-4FE4-9365-047E0C1DE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84626-A2FC-4263-A87B-46E56D45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4E5CE-1EC1-40F9-BB88-9AA977776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F8027-2AFC-4A2A-AF1E-125A7EB6D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2A8BD-C068-48BA-AD38-567B299ED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64CE-AC1C-4010-87AA-5357B1A1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FA52-4A9C-47BD-8770-C9A33A22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C362E-B32E-4CB7-9BFF-2E6BF74C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E00EF-918B-42DD-8AA7-7995A4BD1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0F3A9-72D8-4A3C-A96D-0ECA93109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EF8D0-91B3-4536-9625-BA16D95B4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07D7A-511A-4A19-8558-0B4D1CC8A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A3D121-225B-4AFB-9DDE-44A4666ED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B11DDE-AC5B-4787-85C7-1EA12E622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2EDCCD5-A2EA-4F12-B5CF-EF1C47755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1C0A3D-8EBD-49AD-A923-BB097A8B1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889781-03B1-4638-8299-C9990C394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E6D99-5AA2-4C8F-B879-F26825AA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68473C-971A-4713-B974-2F04CB758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BABFCA-ECB3-428E-AC4A-D7A5EE86F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D6D03A-E4DA-41D0-8D17-1E5EA201B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32030B-C774-4D02-895F-AF8CE7C9F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0A299F-3EA6-49B5-9EAD-913C113CA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B8F5DAB-DFCB-4488-84ED-CF4DF30FA5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EE5D89C-B2EC-4450-BF4E-A0BC79C97B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7E12D86-9D19-4E36-8E3C-8E9BF6425D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E872A2-5BFD-4329-AD45-0032B77B2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8ECB97-22A3-4BDE-A193-2DCA2D5ED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AFEC-7D0B-4DF0-8B52-F816E5F1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301912-9F63-4575-8C7C-83F571BCC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4A7103-D8F2-499C-AB08-B049566BF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6DD370-027C-4637-BE0D-9C868B122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71E7FC-FBEC-4FB1-9BF8-7390C6D90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708415-B1FA-44A2-9E50-80330F883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803002-270B-44F6-9693-511CCACDE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FE44CE-9048-453C-BDE4-5A2A1AFF8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E58C83-E9BD-4F45-858B-476497AEC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38D37C4-D56F-4B88-AB84-CF18C9E004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9A953A-ED85-45BC-9422-E9E842F9BD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49ED-4840-4DB3-B908-BFCC5229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A008AD-867D-44C9-8447-87B256652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C4472B-B116-4E33-9111-70CA18462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E87785-BDCA-4875-A94B-901A5776F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E5A255-B09A-45C7-8F74-DDFE4B160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DB2395-3F8B-4BFF-B6E5-B7855460DD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1372E6-8C00-408C-9B68-D82E1A4A5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8D87B7-16D1-41B3-8610-90F261B3E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68A7A4-5257-430E-909F-94B9E1171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A14072-AACF-4C72-9EB9-FCAA72874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13227E-52AF-459C-93E1-1BA9FA8186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DF69-3891-4AFF-B0AA-F82F5946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619EF4-FE3B-429B-BB5B-F955D12FED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A5B932-070C-4504-A236-1F938DD61B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95B58-8B50-4914-89A5-9133D82BF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836C7E-ABAE-4706-B39A-0B9BCD5CC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3079B4-7E2C-4C4E-8411-814DAEBF2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260AA-D32B-4FB4-A617-6890CEB76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A9EBF-B631-4707-BA0C-49F07F9DB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FA75C-0B98-4794-AEE9-DA741316E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41829-56F4-422F-ABC1-E976F5E8D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43963-FCD8-45B6-8DFC-C1B11293D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D112-DD70-422D-8FB9-6B10D9E93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0558B-3397-43FE-ABCB-40B329491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68CDC8-D23E-4F29-9E2B-CD8D443415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489311-4A25-4481-B042-64E314357F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C19A848-27A7-4227-90A6-29B6CFC051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8DD52CC-82D4-45B4-B618-A48DB4C88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D82253-65F5-4971-AF2C-85E40746B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5D57FF-143C-41F4-9195-F142B7EFAA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B9F2DF-FE0F-4DC0-AFD0-9DD5CA897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9BAC43-295E-4861-A27A-BB4161E7D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54DEBF-538F-4832-B210-18A37ABA6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BADE-E1D6-420B-B94D-ED0BEE44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B4F810-34DC-4340-995C-9AD1832D1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516F4B-AA53-4E37-9264-A4DC097EA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831F0E-5D40-44FA-81CD-5A58A7306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E943301-68CC-4C83-B256-DD694AFDE8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2D2817C-F71E-42CA-960A-F396C79589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E1AD9E-BAA4-4E59-B0CB-4C1E8A0886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19FF1-BE14-4796-B9CA-506620A53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36B5D-B904-49C5-9A35-460B4669B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1630D3-DF86-49CC-886A-3E4338F30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AD500-ACC0-4D53-A48B-9A2AF7AC8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871B-89A6-4B03-9380-03CFDEA0F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F20647-78CC-43F4-81AF-9AF924C227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7ABE4-32E1-4219-B8FB-9E0F9F017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E7DBF-EBA0-4584-A50E-5E57DDDF5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34D52-7F53-41CD-8921-93A163CEB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B5F076-0194-4E24-93B1-A096D7F2E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001CD-1F8C-434E-9892-67D734E770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5E89C-2AF0-4908-B48D-ABEFE4390E7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3E7D-1CB9-4D5E-BF2E-C5D18DCBF6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20E7-D70A-4B01-A220-486B01E0CD7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A309-D613-42AA-A85D-5C46575DCC1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2556-A899-422B-A11B-305331A689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446A-FAE6-48E0-B9F0-DD254F256C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8C66-AF30-4ABA-B0B7-DAF309A7322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928B-552C-4270-9254-2ECD78175F7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035F-0D21-4A09-B6EF-231841828F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www.online-templatestore.com/"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dc3"/>
                </a:solidFill>
                <a:latin typeface="Tw Cen MT"/>
              </a:rPr>
              <a:t>PERSONAL PROTECTIVE EQUIPMENT </a:t>
            </a:r>
            <a:endParaRPr b="0" lang="en-US" sz="4400" spc="-1" strike="noStrike">
              <a:solidFill>
                <a:srgbClr val="ebddc3"/>
              </a:solidFill>
              <a:latin typeface="Tw Cen MT"/>
            </a:endParaRPr>
          </a:p>
        </p:txBody>
      </p:sp>
      <p:sp>
        <p:nvSpPr>
          <p:cNvPr id="354"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SAFETY TRAINING MODULE</a:t>
            </a:r>
            <a:endParaRPr b="0" lang="en-US" sz="2600" spc="-1" strike="noStrike">
              <a:solidFill>
                <a:srgbClr val="ffffff"/>
              </a:solidFill>
              <a:latin typeface="Tw Cen MT"/>
            </a:endParaRPr>
          </a:p>
        </p:txBody>
      </p:sp>
      <p:graphicFrame>
        <p:nvGraphicFramePr>
          <p:cNvPr id="355" name="Object 2"/>
          <p:cNvGraphicFramePr/>
          <p:nvPr/>
        </p:nvGraphicFramePr>
        <p:xfrm>
          <a:off x="0" y="0"/>
          <a:ext cx="4572000" cy="2819520"/>
        </p:xfrm>
        <a:graphic>
          <a:graphicData uri="http://schemas.openxmlformats.org/presentationml/2006/ole">
            <p:oleObj r:id="rId1" spid="">
              <p:embed/>
              <p:pic>
                <p:nvPicPr>
                  <p:cNvPr id="356" name="Object 2" descr=""/>
                  <p:cNvPicPr/>
                  <p:nvPr/>
                </p:nvPicPr>
                <p:blipFill>
                  <a:blip r:embed="rId2"/>
                  <a:stretch/>
                </p:blipFill>
                <p:spPr>
                  <a:xfrm>
                    <a:off x="0" y="0"/>
                    <a:ext cx="4572000" cy="2819520"/>
                  </a:xfrm>
                  <a:prstGeom prst="rect">
                    <a:avLst/>
                  </a:prstGeom>
                  <a:ln w="0">
                    <a:noFill/>
                  </a:ln>
                </p:spPr>
              </p:pic>
            </p:oleObj>
          </a:graphicData>
        </a:graphic>
      </p:graphicFrame>
      <p:pic>
        <p:nvPicPr>
          <p:cNvPr id="357" name="Picture 5" descr="main-45.jpg">
            <a:hlinkClick r:id="rId3"/>
          </p:cNvPr>
          <p:cNvPicPr/>
          <p:nvPr/>
        </p:nvPicPr>
        <p:blipFill>
          <a:blip r:embed="rId4"/>
          <a:stretch/>
        </p:blipFill>
        <p:spPr>
          <a:xfrm>
            <a:off x="-9360" y="6048360"/>
            <a:ext cx="229536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piratory Protection</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o Basic Typ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ir Purifying Respirato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mosphere Supplying Respirator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3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692F-5482-4E53-B4B8-88F571191FD5}"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d Protection</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verhead haz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osed electrical condu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mets rated as Types 1 or 2 and providing Class A, B or C protection</a:t>
            </a:r>
            <a:br>
              <a:rPr sz="2900"/>
            </a:br>
            <a:br>
              <a:rPr sz="2900"/>
            </a:br>
            <a:r>
              <a:rPr b="0" lang="en-US" sz="2900" spc="-1" strike="noStrike">
                <a:solidFill>
                  <a:srgbClr val="000000"/>
                </a:solidFill>
                <a:latin typeface="Tw Cen MT"/>
              </a:rPr>
              <a:t>A = General impact, 2200 volts protection</a:t>
            </a:r>
            <a:br>
              <a:rPr sz="2900"/>
            </a:br>
            <a:r>
              <a:rPr b="0" lang="en-US" sz="2900" spc="-1" strike="noStrike">
                <a:solidFill>
                  <a:srgbClr val="000000"/>
                </a:solidFill>
                <a:latin typeface="Tw Cen MT"/>
              </a:rPr>
              <a:t>B = 20,000 volts protection</a:t>
            </a:r>
            <a:br>
              <a:rPr sz="2900"/>
            </a:br>
            <a:r>
              <a:rPr b="0" lang="en-US" sz="2900" spc="-1" strike="noStrike">
                <a:solidFill>
                  <a:srgbClr val="000000"/>
                </a:solidFill>
                <a:latin typeface="Tw Cen MT"/>
              </a:rPr>
              <a:t>C = Bump protection, no electrical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2A6E-0976-402F-B46E-27FFB76C6060}"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rm &amp; Hand Protection</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chemicals and other substances, temperature extremes, sharp object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cuts, abrasions, burns, amputations, shock, chemical absorption</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love protection information to be obtained from the manufacturer</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includes gloves, sleeves, hand pads, wristlets, etc.</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ubber insulating equipment needed for electrical worker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3A08-4A4C-4197-A395-9A2C84892D72}"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oot  &amp; Leg Protection</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falling or rolling objects, objects piercing the sole, electrical hazards, molten metal, hot surfaces, slippery surfa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es / boots may provide impact protection, compression protection, punctur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ggings protect the lower legs and feet from molten metal and welding spark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E211-47A0-489D-9C29-E87403547FA0}"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rso Protection</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include heat, splashes from liquids, impacts, cuts, and radi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heat burns, radiation burns, and chemical burns, lacerations, and abras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quipment includes vests, jackets, aprons</a:t>
            </a:r>
            <a:br>
              <a:rPr sz="2900"/>
            </a:br>
            <a:r>
              <a:rPr b="0" lang="en-US" sz="2900" spc="-1" strike="noStrike">
                <a:solidFill>
                  <a:srgbClr val="000000"/>
                </a:solidFill>
                <a:latin typeface="Tw Cen MT"/>
              </a:rPr>
              <a:t>coveralls, and full body suits.</a:t>
            </a:r>
            <a:endParaRPr b="0" lang="en-US" sz="29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3A02-D313-4D70-9E6B-D04A7498414F}"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are, Use, Maintenance, &amp; Disposal of PPE</a:t>
            </a:r>
            <a:endParaRPr b="0" lang="en-US" sz="40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is available in various types and styl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sure that the PPE assigned to you fits properly and snugly</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n PPE regularly, following manufacturer’s suggestion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familiar with the life expectancy of your PPE and dispose of when needed</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port any discomfort, problems or questions to your supervisor or safety manager</a:t>
            </a:r>
            <a:endParaRPr b="0" lang="en-US" sz="2900" spc="-1" strike="noStrike">
              <a:solidFill>
                <a:srgbClr val="000000"/>
              </a:solidFill>
              <a:latin typeface="Tw Cen MT"/>
            </a:endParaRPr>
          </a:p>
        </p:txBody>
      </p:sp>
      <p:sp>
        <p:nvSpPr>
          <p:cNvPr id="39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4B6D-E00C-4E75-ADF9-3ED78DD7E9D7}"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l Protective Equipment</a:t>
            </a:r>
            <a:endParaRPr b="0" lang="en-US" sz="4400" spc="-1" strike="noStrike">
              <a:solidFill>
                <a:srgbClr val="775f55"/>
              </a:solidFill>
              <a:latin typeface="Tw Cen MT"/>
            </a:endParaRPr>
          </a:p>
        </p:txBody>
      </p:sp>
      <p:sp>
        <p:nvSpPr>
          <p:cNvPr id="40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l Discuss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Question and Answer Period</a:t>
            </a:r>
            <a:endParaRPr b="0" lang="en-US" sz="2900" spc="-1" strike="noStrike">
              <a:solidFill>
                <a:srgbClr val="000000"/>
              </a:solidFill>
              <a:latin typeface="Tw Cen MT"/>
            </a:endParaRPr>
          </a:p>
        </p:txBody>
      </p:sp>
      <p:sp>
        <p:nvSpPr>
          <p:cNvPr id="40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FC99-C6F1-4C68-BE2D-C9A18F3530BC}"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Federal OSHA Standard</a:t>
            </a:r>
            <a:br>
              <a:rPr sz="4000"/>
            </a:br>
            <a:r>
              <a:rPr b="0" lang="en-US" sz="4000" spc="-1" strike="noStrike">
                <a:solidFill>
                  <a:srgbClr val="775f55"/>
                </a:solidFill>
                <a:latin typeface="Tw Cen MT"/>
              </a:rPr>
              <a:t>Overview</a:t>
            </a:r>
            <a:endParaRPr b="0" lang="en-US" sz="40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es to general industr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verns the use, selection, maintenance, fit and disposal of Personal Protective Equip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assess hazards in their</a:t>
            </a:r>
            <a:br>
              <a:rPr sz="2900"/>
            </a:br>
            <a:r>
              <a:rPr b="0" lang="en-US" sz="2900" spc="-1" strike="noStrike">
                <a:solidFill>
                  <a:srgbClr val="000000"/>
                </a:solidFill>
                <a:latin typeface="Tw Cen MT"/>
              </a:rPr>
              <a:t>workplace and select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E4D1-8076-4BE5-B3D8-5E7577F8EE4D}"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to select PPE based on hazards present or likely to be pres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hibits use of defective / damaged equipm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training employees in PPE use, fit, maintenance, life expectancy &amp; disposal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B12D-78D8-4FA4-BDA7-2938ACE7284B}"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zard 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required to conduct a workplace hazard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exposed to identified hazards are to be provided with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in writing that the hazard assessment has been complet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maged or defective PPE is not to be used</a:t>
            </a:r>
            <a:endParaRPr b="0" lang="en-US" sz="2900" spc="-1" strike="noStrike">
              <a:solidFill>
                <a:srgbClr val="000000"/>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4D41-0FEB-4CFD-A0AF-C285C2F7F231}"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ining</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to be instructed when PPE is necessary, what type, how to wear it, limitations, proper care, maintenance, useful life, and disposal</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that training has been completed and that employees understand i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8D72-AE06-4CD1-9E69-8CCF34A99CD0}"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TYPES OF PPE:</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othing, equipment, respiratory devices, protective shields and barrie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eyes, face, head, torso and extremities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ss hazards, environment, chemicals, radiological, or mechanical hazard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pable of causing injury or impairment through absorption, inhalation, or physical contact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1062-04F0-46E7-B517-5C4FF46D9657}"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PPE</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ye &amp; Fac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rin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spiratory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m &amp; Han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ot &amp; Le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rso Protection</a:t>
            </a:r>
            <a:endParaRPr b="0" lang="en-US" sz="2900" spc="-1" strike="noStrike">
              <a:solidFill>
                <a:srgbClr val="000000"/>
              </a:solidFill>
              <a:latin typeface="Tw Cen MT"/>
            </a:endParaRPr>
          </a:p>
        </p:txBody>
      </p:sp>
      <p:sp>
        <p:nvSpPr>
          <p:cNvPr id="37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AC02-04F3-4852-BFF2-F21BDC4FB9CB}"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ye &amp; Face Protec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from flying particles, molten metal, liquid chemicals, acids, caustic liquids, chemical gases or vapors, and light radiation</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deshield protection needed for flying particl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safety prescription lenses or eye protection worn over regular glasses or contact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needed to cover multiple hazard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6154-4660-4146-8D66-801A1DD98647}"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ring Protection</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d in high noise areas, depending on the duration of worker exposur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term exposure can result in permanent hearing loss or impairmen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perly worn or maintained PPE will not sufficiently reduce the noise leve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 earplugs or earmuff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7EE5-948A-495E-9CC1-749F84E25B4B}"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7T12:48:22Z</dcterms:created>
  <dc:creator>www.online-templatestore.com</dc:creator>
  <dc:description/>
  <dc:language>en-US</dc:language>
  <cp:lastModifiedBy>Mouton</cp:lastModifiedBy>
  <cp:lastPrinted>1996-06-07T12:46:36Z</cp:lastPrinted>
  <dcterms:modified xsi:type="dcterms:W3CDTF">2011-02-11T11:15:39Z</dcterms:modified>
  <cp:revision>8</cp:revision>
  <dc:subject/>
  <dc:title>Personal Protective Equipment  An Employee Awareness &amp; Training Course</dc:title>
</cp:coreProperties>
</file>